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D2A4-B930-4CA7-B818-EEA6995C4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3D9A-8E5B-4A07-86EE-6AA2BAB8D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70BE-F2B1-46CC-85CE-0C0856757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1C64-5D87-49DE-864A-3B632EEF2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166E-54DE-4029-A44A-072B68706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F0C7-42F9-4338-B5D8-12B394956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E78F-D5B0-42EC-936C-FCA288874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F8FA-23F2-4AD5-9883-73FC6EA86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2E3B-E900-4CE3-B409-12C59498D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F481-9ECE-48B7-B7C3-97FDE6330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79B5-B197-4CAE-A7BE-14F068FDE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BDA7-C226-4647-8B4D-AB5736040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B53F9-F3DA-444B-9DB3-A33CD4C1C152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0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6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82320" cy="10778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90" name="عنوان 1"/>
          <p:cNvSpPr/>
          <p:nvPr/>
        </p:nvSpPr>
        <p:spPr>
          <a:xfrm>
            <a:off x="250920" y="1916280"/>
            <a:ext cx="8634240" cy="12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ذين أنعم الله عليه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مغضوب عليه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ضالي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3"/>
          <a:stretch/>
        </p:blipFill>
        <p:spPr>
          <a:xfrm>
            <a:off x="3132000" y="1197000"/>
            <a:ext cx="5753160" cy="52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6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82320" cy="1077840"/>
          </a:xfrm>
          <a:prstGeom prst="rect">
            <a:avLst/>
          </a:prstGeom>
          <a:ln w="0">
            <a:noFill/>
          </a:ln>
        </p:spPr>
      </p:pic>
      <p:sp>
        <p:nvSpPr>
          <p:cNvPr id="93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49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"/>
          <p:cNvPicPr/>
          <p:nvPr/>
        </p:nvPicPr>
        <p:blipFill>
          <a:blip r:embed="rId3"/>
          <a:stretch/>
        </p:blipFill>
        <p:spPr>
          <a:xfrm>
            <a:off x="250920" y="1484280"/>
            <a:ext cx="856908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6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82320" cy="10778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3" descr=""/>
          <p:cNvPicPr/>
          <p:nvPr/>
        </p:nvPicPr>
        <p:blipFill>
          <a:blip r:embed="rId3"/>
          <a:stretch/>
        </p:blipFill>
        <p:spPr>
          <a:xfrm>
            <a:off x="679320" y="1125360"/>
            <a:ext cx="8342280" cy="5209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6" descr=""/>
          <p:cNvPicPr/>
          <p:nvPr/>
        </p:nvPicPr>
        <p:blipFill>
          <a:blip r:embed="rId4"/>
          <a:stretch/>
        </p:blipFill>
        <p:spPr>
          <a:xfrm>
            <a:off x="250920" y="1773360"/>
            <a:ext cx="856908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6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82320" cy="10778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4" descr=""/>
          <p:cNvPicPr/>
          <p:nvPr/>
        </p:nvPicPr>
        <p:blipFill>
          <a:blip r:embed="rId3"/>
          <a:stretch/>
        </p:blipFill>
        <p:spPr>
          <a:xfrm>
            <a:off x="831960" y="1197000"/>
            <a:ext cx="8062920" cy="4953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5" descr=""/>
          <p:cNvPicPr/>
          <p:nvPr/>
        </p:nvPicPr>
        <p:blipFill>
          <a:blip r:embed="rId4"/>
          <a:stretch/>
        </p:blipFill>
        <p:spPr>
          <a:xfrm>
            <a:off x="3708360" y="2781360"/>
            <a:ext cx="5105520" cy="482400"/>
          </a:xfrm>
          <a:prstGeom prst="rect">
            <a:avLst/>
          </a:prstGeom>
          <a:ln w="0">
            <a:noFill/>
          </a:ln>
        </p:spPr>
      </p:pic>
      <p:sp>
        <p:nvSpPr>
          <p:cNvPr id="104" name="عنوان 1"/>
          <p:cNvSpPr/>
          <p:nvPr/>
        </p:nvSpPr>
        <p:spPr>
          <a:xfrm>
            <a:off x="250920" y="1844640"/>
            <a:ext cx="869148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ه سبحانه أخبر قبل ذلك بأنه رب العالمي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عنوان 1"/>
          <p:cNvSpPr/>
          <p:nvPr/>
        </p:nvSpPr>
        <p:spPr>
          <a:xfrm>
            <a:off x="179280" y="3429000"/>
            <a:ext cx="86918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يؤمن بأنها من عند الله تعالى وهي اليوم محرفة ومنسوخة ونسخها القرآن الكريم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0" y="712800"/>
            <a:ext cx="9151920" cy="12668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"/>
          <p:cNvPicPr/>
          <p:nvPr/>
        </p:nvPicPr>
        <p:blipFill>
          <a:blip r:embed="rId2"/>
          <a:stretch/>
        </p:blipFill>
        <p:spPr>
          <a:xfrm>
            <a:off x="250920" y="2349360"/>
            <a:ext cx="8569080" cy="37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6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82320" cy="10778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1" descr=""/>
          <p:cNvPicPr/>
          <p:nvPr/>
        </p:nvPicPr>
        <p:blipFill>
          <a:blip r:embed="rId2"/>
          <a:stretch/>
        </p:blipFill>
        <p:spPr>
          <a:xfrm>
            <a:off x="152280" y="981000"/>
            <a:ext cx="883944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عاني الكلمات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6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82320" cy="10778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9" descr=""/>
          <p:cNvPicPr/>
          <p:nvPr/>
        </p:nvPicPr>
        <p:blipFill>
          <a:blip r:embed="rId2"/>
          <a:stretch/>
        </p:blipFill>
        <p:spPr>
          <a:xfrm>
            <a:off x="250920" y="1484280"/>
            <a:ext cx="8623080" cy="5184720"/>
          </a:xfrm>
          <a:prstGeom prst="rect">
            <a:avLst/>
          </a:prstGeom>
          <a:ln w="0">
            <a:noFill/>
          </a:ln>
        </p:spPr>
      </p:pic>
      <p:sp>
        <p:nvSpPr>
          <p:cNvPr id="50" name="عنوان 1"/>
          <p:cNvSpPr/>
          <p:nvPr/>
        </p:nvSpPr>
        <p:spPr>
          <a:xfrm>
            <a:off x="250920" y="2492280"/>
            <a:ext cx="489744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سيد المدبر للشئو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عنوان 1"/>
          <p:cNvSpPr/>
          <p:nvPr/>
        </p:nvSpPr>
        <p:spPr>
          <a:xfrm>
            <a:off x="322200" y="3267000"/>
            <a:ext cx="489744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نصرف العبادة لك وحدك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عنوان 1"/>
          <p:cNvSpPr/>
          <p:nvPr/>
        </p:nvSpPr>
        <p:spPr>
          <a:xfrm>
            <a:off x="324000" y="4633920"/>
            <a:ext cx="489744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دلنا وأرشدنا ووفقنا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عنوان 1"/>
          <p:cNvSpPr/>
          <p:nvPr/>
        </p:nvSpPr>
        <p:spPr>
          <a:xfrm>
            <a:off x="324000" y="5283360"/>
            <a:ext cx="489744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طريق الواضح الموصل إلى الله وإلى جنته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324000" y="6021360"/>
            <a:ext cx="489744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1f497d"/>
                </a:solidFill>
                <a:latin typeface="Calibri"/>
                <a:cs typeface="Times New Roman"/>
              </a:rPr>
              <a:t>من ملائكتك ، وأنبيائك ، والصديقين ، والشهداء ، والصالحين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82320" cy="1077840"/>
          </a:xfrm>
          <a:prstGeom prst="rect">
            <a:avLst/>
          </a:prstGeom>
          <a:ln w="0">
            <a:noFill/>
          </a:ln>
        </p:spPr>
      </p:pic>
      <p:sp>
        <p:nvSpPr>
          <p:cNvPr id="57" name="عنوان 1"/>
          <p:cNvSpPr/>
          <p:nvPr/>
        </p:nvSpPr>
        <p:spPr>
          <a:xfrm>
            <a:off x="250920" y="148428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موصوف بالرحمة البالغة هو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له تعالى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250920" y="198900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تقوية المسلم صلته بربه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ة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50920" y="256536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كيفية تقوية المسلم صلته بربه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- طاعته  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- حسن عبادته  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3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بعد عن أسباب سخطه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227160" y="314172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إذا وردت كلمة (الرب) معرفة بالألف واللام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فلا تكون إلا لله تعالى</a:t>
            </a: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227160" y="371808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إثبات صفة الرحمة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له تعالى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250920" y="429264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صفة (الرحمن) أبلغ من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(الرحيم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250920" y="4869000"/>
          <a:ext cx="8642160" cy="1108080"/>
        </p:xfrm>
        <a:graphic>
          <a:graphicData uri="http://schemas.openxmlformats.org/drawingml/2006/table">
            <a:tbl>
              <a:tblPr/>
              <a:tblGrid>
                <a:gridCol w="7313400"/>
                <a:gridCol w="13287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</a:rPr>
                        <a:t>السبب أن صفة (الرحمن) أبلغ من (الرحيم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لأن الرحمن ذو الرحمة الشاملة لجميع الخلق في الدنيا وللمؤمنين في الاخرة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الرحم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والرحيم ذو الرحمة الخاصة بالمؤمنين يوم القيام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الرحي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6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82320" cy="1077840"/>
          </a:xfrm>
          <a:prstGeom prst="rect">
            <a:avLst/>
          </a:prstGeom>
          <a:ln w="0">
            <a:noFill/>
          </a:ln>
        </p:spPr>
      </p:pic>
      <p:sp>
        <p:nvSpPr>
          <p:cNvPr id="66" name="عنوان 1"/>
          <p:cNvSpPr/>
          <p:nvPr/>
        </p:nvSpPr>
        <p:spPr>
          <a:xfrm>
            <a:off x="250920" y="1484280"/>
            <a:ext cx="86659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سبب أن تخصيص الملك بيوم الدين في قوله تعالى :</a:t>
            </a:r>
            <a:r>
              <a:rPr b="1" lang="ar-SA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</a:t>
            </a:r>
            <a:r>
              <a:rPr b="1" lang="ar-SA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لا ينفيه عما عداه :</a:t>
            </a:r>
            <a:r>
              <a:rPr b="1" lang="ar-SA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أنه سبحانه أخبر قبل ذلك بأنه رب العالمين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227160" y="234936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عنى العبادة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كمال الذل لله تعالى مع كمال الحب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عنوان 1"/>
          <p:cNvSpPr/>
          <p:nvPr/>
        </p:nvSpPr>
        <p:spPr>
          <a:xfrm>
            <a:off x="227160" y="299736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تزام المسلم بأمر به بفعل الطاعات والبعد عن المعاصي التي تحجب القلب وتضعف القلب :</a:t>
            </a:r>
            <a:r>
              <a:rPr b="1" lang="ar-SA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عنوان 1"/>
          <p:cNvSpPr/>
          <p:nvPr/>
        </p:nvSpPr>
        <p:spPr>
          <a:xfrm>
            <a:off x="250920" y="3645000"/>
            <a:ext cx="86659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7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وجوب التزام المسلم بأمر به بفعل الطاعات والبعد عن المعاصي التي تحجب القلب وتضعف القلب :</a:t>
            </a:r>
            <a:r>
              <a:rPr b="1" lang="ar-SA" sz="17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ينال الأجر والثواب من الله تعالى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2"/>
          <a:stretch/>
        </p:blipFill>
        <p:spPr>
          <a:xfrm>
            <a:off x="2911320" y="1465200"/>
            <a:ext cx="1812960" cy="468360"/>
          </a:xfrm>
          <a:prstGeom prst="rect">
            <a:avLst/>
          </a:prstGeom>
          <a:ln w="0">
            <a:noFill/>
          </a:ln>
        </p:spPr>
      </p:pic>
      <p:sp>
        <p:nvSpPr>
          <p:cNvPr id="71" name="عنوان 1"/>
          <p:cNvSpPr/>
          <p:nvPr/>
        </p:nvSpPr>
        <p:spPr>
          <a:xfrm>
            <a:off x="250920" y="4365720"/>
            <a:ext cx="86659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دليل وجوب التزام المسلم بأمر به بفعل الطاعات والبعد عن المعاصي التي تحجب القلب وتضعف القلب :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3"/>
          <a:stretch/>
        </p:blipFill>
        <p:spPr>
          <a:xfrm>
            <a:off x="3787920" y="4838760"/>
            <a:ext cx="5105160" cy="534960"/>
          </a:xfrm>
          <a:prstGeom prst="rect">
            <a:avLst/>
          </a:prstGeom>
          <a:ln w="0">
            <a:noFill/>
          </a:ln>
        </p:spPr>
      </p:pic>
      <p:sp>
        <p:nvSpPr>
          <p:cNvPr id="73" name="عنوان 1"/>
          <p:cNvSpPr/>
          <p:nvPr/>
        </p:nvSpPr>
        <p:spPr>
          <a:xfrm>
            <a:off x="179280" y="5373720"/>
            <a:ext cx="866628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ين المقبول عند الله هو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إسلا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عنوان 1"/>
          <p:cNvSpPr/>
          <p:nvPr/>
        </p:nvSpPr>
        <p:spPr>
          <a:xfrm>
            <a:off x="179280" y="6093000"/>
            <a:ext cx="866628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غير دين الإسلام من الأديان السماوية الأخرى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نسخت بعد بعثة محمد صلى الله عليه وسلم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6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82320" cy="1077840"/>
          </a:xfrm>
          <a:prstGeom prst="rect">
            <a:avLst/>
          </a:prstGeom>
          <a:ln w="0">
            <a:noFill/>
          </a:ln>
        </p:spPr>
      </p:pic>
      <p:sp>
        <p:nvSpPr>
          <p:cNvPr id="77" name="عنوان 1"/>
          <p:cNvSpPr/>
          <p:nvPr/>
        </p:nvSpPr>
        <p:spPr>
          <a:xfrm>
            <a:off x="250920" y="1484280"/>
            <a:ext cx="866592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ليل على أن الدين المقبول عند الله هو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إسلام : قوله تعالى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عنوان 1"/>
          <p:cNvSpPr/>
          <p:nvPr/>
        </p:nvSpPr>
        <p:spPr>
          <a:xfrm>
            <a:off x="227160" y="299736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جمع الله بيت العبادة والاستقامة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أنه لا قيام بالعبادة على الوجه الأكمل إلا بمعونة الله تعالى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2"/>
          <a:stretch/>
        </p:blipFill>
        <p:spPr>
          <a:xfrm>
            <a:off x="1415880" y="2049480"/>
            <a:ext cx="741528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6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82320" cy="10778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"/>
          <p:cNvPicPr/>
          <p:nvPr/>
        </p:nvPicPr>
        <p:blipFill>
          <a:blip r:embed="rId3"/>
          <a:stretch/>
        </p:blipFill>
        <p:spPr>
          <a:xfrm>
            <a:off x="3795840" y="981000"/>
            <a:ext cx="5079960" cy="4953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4"/>
          <a:stretch/>
        </p:blipFill>
        <p:spPr>
          <a:xfrm>
            <a:off x="109440" y="1484280"/>
            <a:ext cx="8926560" cy="50403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5"/>
          <a:stretch/>
        </p:blipFill>
        <p:spPr>
          <a:xfrm>
            <a:off x="0" y="2708280"/>
            <a:ext cx="5495760" cy="1008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6"/>
          <a:stretch/>
        </p:blipFill>
        <p:spPr>
          <a:xfrm>
            <a:off x="109440" y="3719520"/>
            <a:ext cx="5391360" cy="7891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"/>
          <p:cNvPicPr/>
          <p:nvPr/>
        </p:nvPicPr>
        <p:blipFill>
          <a:blip r:embed="rId7"/>
          <a:stretch/>
        </p:blipFill>
        <p:spPr>
          <a:xfrm>
            <a:off x="1440" y="4653000"/>
            <a:ext cx="5499360" cy="792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"/>
          <p:cNvPicPr/>
          <p:nvPr/>
        </p:nvPicPr>
        <p:blipFill>
          <a:blip r:embed="rId8"/>
          <a:stretch/>
        </p:blipFill>
        <p:spPr>
          <a:xfrm>
            <a:off x="971640" y="5661000"/>
            <a:ext cx="4419360" cy="6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/>
  <dc:description/>
  <dc:language>en-US</dc:language>
  <cp:lastModifiedBy>مسلم</cp:lastModifiedBy>
  <dcterms:modified xsi:type="dcterms:W3CDTF">2011-07-11T11:04:51Z</dcterms:modified>
  <cp:revision>0</cp:revision>
  <dc:subject/>
  <dc:title/>
</cp:coreProperties>
</file>